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E7D6-A804-4D5C-ACE6-DBE206F31C2D}"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F415-367A-4390-ADF7-3C684A0FBA7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F7F9-102B-456B-BF1C-80A6A0787DC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D52-7EF0-4BCD-8801-CAF3D7BF630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4534-173F-4DC5-B3EB-51469ED0579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6501-187C-43C4-934D-415893B33840}"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A762-F766-423F-AA8B-D837820C157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3627-59F2-4246-993A-29B45D9199F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16C8-1FF1-46A2-8FC3-102A504206A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60B1-73FF-4B3E-8144-F33AB5BE4A1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55CA7F3-AA0B-4CEF-8AD9-70A4F62BD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6947CDF-4922-4200-B0C8-B20B684F2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787DED4-C4F2-43D4-BF4C-BD311318B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B9C30C3-424F-440C-AB91-EB5DEFAAA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E840308-A178-4CFB-8F7F-1A8BD06C7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544901-E082-4579-B25D-48672646E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D4B0B7-FF76-467D-B488-99765E705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38E357-5D3C-487D-9947-D426A85B2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188B9A-6FE1-49C3-9B0D-574266EB8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74974A-ED98-4C9F-8270-F9A7365E0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3DD716-5430-4402-AE49-D499D6B0F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50C04D8-96FB-4510-A61B-6EFF4814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30D264-DD72-44EE-9E6C-DAA3F4D78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DCC968-BA29-4564-B54B-49130FFE6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6E2B93-39F5-4810-9D82-F9D6A4FA6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91F4A6-D2E6-4934-9814-8B34130E9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5ED6D5B-5CD4-4D25-9EAC-7C2E875FE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DF64FD-42C7-425B-98B2-81E331515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3A8B0F-8A5A-4B8F-A154-611C373CC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99DE7E-E7D1-4AC6-B73F-697ABED6E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18A509-2555-4DCB-B8E4-C48A801DE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823AAD-F466-4ABA-B721-0ECF248F7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0CEB57-049E-425E-A0C6-2AC54D5C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258476-71A1-42D1-8B97-480310641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91BC-9A3F-4268-93A1-681A54B4BBF0}" type="datetime">
              <a:rPr b="0" lang="es-ES_tradnl" sz="1000" spc="-1" strike="noStrike">
                <a:solidFill>
                  <a:srgbClr val="ffff66"/>
                </a:solidFill>
                <a:latin typeface="Arial"/>
              </a:rPr>
              <a:t>28/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2A69-DFE5-4183-A12B-8321FEEBA2D9}"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D991-C790-4105-A936-E53EA8C7E9B6}" type="datetime">
              <a:rPr b="0" lang="es-ES_tradnl" sz="1000" spc="-1" strike="noStrike">
                <a:solidFill>
                  <a:srgbClr val="ffffff"/>
                </a:solidFill>
                <a:latin typeface="Arial"/>
              </a:rPr>
              <a:t>28/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3261-0EBB-42D5-9162-AC0F0C61DD50}"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